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B51F-9D1D-435A-A074-2D800269E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E021-C996-4F7A-BC08-B55DC6739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25BA-AC0F-4001-8459-29A4DFCEC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AF1A-B5F6-418E-B3FD-1D40385B9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FA78-69F4-46E0-B5CD-7F48DF76C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EFBC-406A-4FC6-A1C4-4CAF898BC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F927-2F2E-4D5D-9E72-FEE66E19A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03E5-12B6-4467-8708-60CFD3192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052E-FD2B-4FDF-9F96-9376F66B3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704C-F20E-4814-8A46-99F48E156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B9A2-BC41-4856-A4BD-4DF9821FE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D932-E7C5-455E-829C-DBBF4462F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C44A6-200A-4145-8835-657E98EC6E1A}" type="slidenum">
              <a:rPr b="0" lang="zh-TW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BenQ Confidential Tuesday, February 07, 2006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ff"/>
                </a:solidFill>
                <a:latin typeface="Minion"/>
              </a:rPr>
              <a:t>Milestones</a:t>
            </a: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482580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M0: 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03/02-06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S0: 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28/02-06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M1: 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14/03-06 A1/B1 + DL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S15: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18/04-06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S2: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17/05-06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S25: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22/06-06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4360" y="3213000"/>
            <a:ext cx="7095960" cy="32814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861080" y="981000"/>
            <a:ext cx="3671640" cy="53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S3: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14/08-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AS: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14/08-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S3-HW: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17/08-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PS: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01/09-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DS: 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15/09-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M3/S4: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09/10-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7T16:09:31Z</dcterms:created>
  <dc:creator>BMLaha</dc:creator>
  <dc:description/>
  <dc:language>en-US</dc:language>
  <cp:lastModifiedBy>Wolfgang Klebsch</cp:lastModifiedBy>
  <dcterms:modified xsi:type="dcterms:W3CDTF">2006-02-10T08:10:59Z</dcterms:modified>
  <cp:revision>59</cp:revision>
  <dc:subject/>
  <dc:title>Jerry - DL</dc:title>
</cp:coreProperties>
</file>